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82C-597F-4ADA-9B3E-0C0606D5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1E9-5023-49E1-B65C-B248DBA8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A5C-6DE8-4305-A332-566B23B8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AD7-9DEC-4B23-BA0C-C86A7604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E3A-B84C-4314-B7A6-8563229E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FC7-2FEA-4DD8-8EFD-1014BF7E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25D-520B-451B-A587-E4F42BF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0A7-E535-4511-9418-51879E43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70B-FD8D-4FC8-9559-8D3FCA77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67B-0707-408B-83B7-4A78D9C6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71D-1540-4675-8010-EE80C9E3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279-74B1-4DBF-BADF-604D30D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59E-A992-46A6-B043-18FF64503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morisecomics.com/portfolio/GOVERNMENT-CENSORSHIP.jpg&amp;imgrefurl=http://www.morisecomics.com/print.html&amp;h=90&amp;w=131&amp;sz=47&amp;tbnid=kmkUftHIdfAJ:&amp;tbnh=90&amp;tbnw=131&amp;prev=/images%3Fq%3Dgovernment%2Bcensorship%2Bpictures&amp;hl=en&amp;sa=X&amp;oi=image_result&amp;resnum=1&amp;ct=image&amp;cd=3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m/imgres?imgurl=http://www.cartoonstock.com/newscartoons/cartoonists/sst/lowres/sstn91l.jpg&amp;imgrefurl=http://www.cartoonstock.com/directory/c/censure.asp&amp;h=124&amp;w=88&amp;sz=19&amp;tbnid=Wvk4H0_qMjUJ:&amp;tbnh=124&amp;tbnw=88&amp;prev=/images%3Fq%3Dgovernment%2Bcensorship%2Bpictures&amp;hl=en&amp;sa=X&amp;oi=image_result&amp;resnum=1&amp;ct=image&amp;cd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m/imgres?imgurl=http://seattlepi.nwsource.com/dayart/20050615/cartoon20050615.gif&amp;imgrefurl=http://blog.seattlepi.nwsource.com/microsoft/archives/2005_06.html&amp;h=104&amp;w=129&amp;sz=53&amp;tbnid=GpOoyNT8ar0J:&amp;tbnh=104&amp;tbnw=129&amp;prev=/images%3Fq%3Dgovernment%2Bcensorship%2Bpictures&amp;hl=en&amp;sa=X&amp;oi=image_result&amp;resnum=1&amp;ct=image&amp;cd=2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m/imgres?imgurl=http://tiger.towson.edu/users/kmorri2/censorship1.jpeg&amp;imgrefurl=http://tiger.towson.edu/users/kmorri2/&amp;h=142&amp;w=104&amp;sz=110&amp;tbnid=REAoWng1J-cJ:&amp;tbnh=142&amp;tbnw=104&amp;prev=/images%3Fq%3Dcensorship%2Bpictures&amp;hl=en&amp;sa=X&amp;oi=image_result&amp;resnum=1&amp;ct=image&amp;cd=1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google.com/imgres?imgurl=http://www.tech2.com/media/images/uploads/2006/04/skype_censorship.jpg&amp;imgrefurl=http://www.tech2.com/india/news/internet/skype-joins-others-in-china-censorship/225/0&amp;h=98&amp;w=132&amp;sz=78&amp;tbnid=ROhArc4WeaoJ:&amp;tbnh=98&amp;tbnw=132&amp;prev=/images%3Fq%3Dcensorship%2Bpictures&amp;hl=en&amp;sa=X&amp;oi=image_result&amp;resnum=1&amp;ct=image&amp;cd=2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image" Target="../media/image17.jpeg"/><Relationship Id="rId23" Type="http://schemas.openxmlformats.org/officeDocument/2006/relationships/image" Target="../media/image18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s" descr="http://www.morisecomics.com/print.htm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3276720"/>
            <a:ext cx="2347920" cy="1612800"/>
          </a:xfrm>
          <a:prstGeom prst="rect">
            <a:avLst/>
          </a:prstGeom>
          <a:ln w="0">
            <a:noFill/>
          </a:ln>
        </p:spPr>
      </p:pic>
      <p:pic>
        <p:nvPicPr>
          <p:cNvPr id="42" name="images" descr="http://www.cartoonstock.com/directory/c/censure.as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2666880"/>
            <a:ext cx="1006200" cy="141768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http://blog.seattlepi.nwsource.com/microsoft/archives/2005_06.htm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86600" y="5199120"/>
            <a:ext cx="2057400" cy="1658880"/>
          </a:xfrm>
          <a:prstGeom prst="rect">
            <a:avLst/>
          </a:prstGeom>
          <a:ln w="0">
            <a:noFill/>
          </a:ln>
        </p:spPr>
      </p:pic>
      <p:pic>
        <p:nvPicPr>
          <p:cNvPr id="44" name="images" descr="http://tiger.towson.edu/users/kmorri2/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images" descr="http://www.tech2.com/india/news/internet/skype-joins-others-in-china-censorship/225/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5329080"/>
            <a:ext cx="2057400" cy="1528920"/>
          </a:xfrm>
          <a:prstGeom prst="rect">
            <a:avLst/>
          </a:prstGeom>
          <a:ln w="0">
            <a:noFill/>
          </a:ln>
        </p:spPr>
      </p:pic>
      <p:pic>
        <p:nvPicPr>
          <p:cNvPr id="46" name="vsh0488l" descr="censorship cartoons, censorship cartoon, censorship picture, censorship pictures, censorship image, censorship images, censorship illustration, censorship illustrations"/>
          <p:cNvPicPr/>
          <p:nvPr/>
        </p:nvPicPr>
        <p:blipFill>
          <a:blip r:embed="rId12"/>
          <a:stretch/>
        </p:blipFill>
        <p:spPr>
          <a:xfrm>
            <a:off x="5486400" y="0"/>
            <a:ext cx="3657600" cy="302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38280"/>
            <a:ext cx="914400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0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0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52480" y="0"/>
            <a:ext cx="6848640" cy="1692360"/>
            <a:chOff x="1752480" y="0"/>
            <a:chExt cx="6848640" cy="1692360"/>
          </a:xfrm>
        </p:grpSpPr>
        <p:sp>
          <p:nvSpPr>
            <p:cNvPr id="52" name=""/>
            <p:cNvSpPr/>
            <p:nvPr/>
          </p:nvSpPr>
          <p:spPr>
            <a:xfrm>
              <a:off x="1752480" y="0"/>
              <a:ext cx="684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752480" y="0"/>
              <a:ext cx="3759120" cy="1692360"/>
              <a:chOff x="1752480" y="0"/>
              <a:chExt cx="3759120" cy="1692360"/>
            </a:xfrm>
          </p:grpSpPr>
          <p:sp>
            <p:nvSpPr>
              <p:cNvPr id="54" name=""/>
              <p:cNvSpPr/>
              <p:nvPr/>
            </p:nvSpPr>
            <p:spPr>
              <a:xfrm>
                <a:off x="1752480" y="0"/>
                <a:ext cx="3759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1752480" y="0"/>
                <a:ext cx="3562200" cy="1692360"/>
                <a:chOff x="1752480" y="0"/>
                <a:chExt cx="3562200" cy="16923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752480" y="0"/>
                  <a:ext cx="3562200" cy="1692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" name=""/>
                <p:cNvGrpSpPr/>
                <p:nvPr/>
              </p:nvGrpSpPr>
              <p:grpSpPr>
                <a:xfrm>
                  <a:off x="1752480" y="0"/>
                  <a:ext cx="3562200" cy="1692360"/>
                  <a:chOff x="1752480" y="0"/>
                  <a:chExt cx="3562200" cy="1692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1752480" y="0"/>
                    <a:ext cx="35622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1752480" y="0"/>
                    <a:ext cx="3562200" cy="1692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333333"/>
                        </a:solidFill>
                        <a:latin typeface="Verdana"/>
                      </a:rPr>
                      <a:t>  </a:t>
                    </a:r>
                    <a:r>
                      <a:rPr b="0" lang="en-US" sz="10500" spc="-1" strike="noStrike">
                        <a:solidFill>
                          <a:srgbClr val="333333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333333"/>
                        </a:solidFill>
                        <a:latin typeface="Verdana"/>
                      </a:rPr>
                      <a:t>             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60" name="under173" descr="Cover of the book "/>
          <p:cNvPicPr/>
          <p:nvPr/>
        </p:nvPicPr>
        <p:blipFill>
          <a:blip r:embed="rId13"/>
          <a:stretch/>
        </p:blipFill>
        <p:spPr>
          <a:xfrm>
            <a:off x="1676520" y="0"/>
            <a:ext cx="1977840" cy="1668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59560" y="47545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Verdana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review" descr="censored magazine cover"/>
          <p:cNvPicPr/>
          <p:nvPr/>
        </p:nvPicPr>
        <p:blipFill>
          <a:blip r:embed="rId14"/>
          <a:stretch/>
        </p:blipFill>
        <p:spPr>
          <a:xfrm>
            <a:off x="0" y="2438280"/>
            <a:ext cx="2629080" cy="2789280"/>
          </a:xfrm>
          <a:prstGeom prst="rect">
            <a:avLst/>
          </a:prstGeom>
          <a:ln w="0">
            <a:noFill/>
          </a:ln>
        </p:spPr>
      </p:pic>
      <p:pic>
        <p:nvPicPr>
          <p:cNvPr id="63" name="images" descr="http://merovingian.wordpress.com/2007/08/17/edited/"/>
          <p:cNvPicPr/>
          <p:nvPr/>
        </p:nvPicPr>
        <p:blipFill>
          <a:blip r:embed="rId15"/>
          <a:stretch/>
        </p:blipFill>
        <p:spPr>
          <a:xfrm>
            <a:off x="3657600" y="0"/>
            <a:ext cx="179064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images" descr=""/>
          <p:cNvPicPr/>
          <p:nvPr/>
        </p:nvPicPr>
        <p:blipFill>
          <a:blip r:embed="rId16"/>
          <a:stretch/>
        </p:blipFill>
        <p:spPr>
          <a:xfrm>
            <a:off x="1676520" y="1676520"/>
            <a:ext cx="1447560" cy="9824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446120" y="1731960"/>
            <a:ext cx="6251400" cy="3394080"/>
            <a:chOff x="1446120" y="1731960"/>
            <a:chExt cx="6251400" cy="3394080"/>
          </a:xfrm>
        </p:grpSpPr>
        <p:sp>
          <p:nvSpPr>
            <p:cNvPr id="66" name=""/>
            <p:cNvSpPr/>
            <p:nvPr/>
          </p:nvSpPr>
          <p:spPr>
            <a:xfrm>
              <a:off x="1446120" y="1731960"/>
              <a:ext cx="6251400" cy="33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446120" y="1731960"/>
              <a:ext cx="2946240" cy="2849400"/>
              <a:chOff x="1446120" y="1731960"/>
              <a:chExt cx="2946240" cy="2849400"/>
            </a:xfrm>
          </p:grpSpPr>
          <p:sp>
            <p:nvSpPr>
              <p:cNvPr id="68" name=""/>
              <p:cNvSpPr/>
              <p:nvPr/>
            </p:nvSpPr>
            <p:spPr>
              <a:xfrm>
                <a:off x="1446120" y="1731960"/>
                <a:ext cx="2946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46120" y="1731960"/>
                <a:ext cx="2946240" cy="284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5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20031209F-012D" descr=""/>
          <p:cNvPicPr/>
          <p:nvPr/>
        </p:nvPicPr>
        <p:blipFill>
          <a:blip r:embed="rId17"/>
          <a:stretch/>
        </p:blipFill>
        <p:spPr>
          <a:xfrm>
            <a:off x="6095880" y="25146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C0030198" descr=""/>
          <p:cNvPicPr/>
          <p:nvPr/>
        </p:nvPicPr>
        <p:blipFill>
          <a:blip r:embed="rId18"/>
          <a:stretch/>
        </p:blipFill>
        <p:spPr>
          <a:xfrm>
            <a:off x="1905120" y="4915080"/>
            <a:ext cx="1292040" cy="19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25800" y="2457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1525R-80061" descr=""/>
          <p:cNvPicPr/>
          <p:nvPr/>
        </p:nvPicPr>
        <p:blipFill>
          <a:blip r:embed="rId19"/>
          <a:stretch/>
        </p:blipFill>
        <p:spPr>
          <a:xfrm>
            <a:off x="4800600" y="48769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5800" y="2457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nsm05" descr=""/>
          <p:cNvPicPr/>
          <p:nvPr/>
        </p:nvPicPr>
        <p:blipFill>
          <a:blip r:embed="rId20"/>
          <a:stretch/>
        </p:blipFill>
        <p:spPr>
          <a:xfrm>
            <a:off x="3809880" y="1676520"/>
            <a:ext cx="1600200" cy="1596960"/>
          </a:xfrm>
          <a:prstGeom prst="rect">
            <a:avLst/>
          </a:prstGeom>
          <a:ln w="0">
            <a:noFill/>
          </a:ln>
        </p:spPr>
      </p:pic>
      <p:pic>
        <p:nvPicPr>
          <p:cNvPr id="76" name="338037420_b740ce3bf4" descr=""/>
          <p:cNvPicPr/>
          <p:nvPr/>
        </p:nvPicPr>
        <p:blipFill>
          <a:blip r:embed="rId21"/>
          <a:stretch/>
        </p:blipFill>
        <p:spPr>
          <a:xfrm>
            <a:off x="0" y="3733920"/>
            <a:ext cx="1600200" cy="1565280"/>
          </a:xfrm>
          <a:prstGeom prst="rect">
            <a:avLst/>
          </a:prstGeom>
          <a:ln w="0">
            <a:noFill/>
          </a:ln>
        </p:spPr>
      </p:pic>
      <p:pic>
        <p:nvPicPr>
          <p:cNvPr id="77" name="schedel2" descr=""/>
          <p:cNvPicPr/>
          <p:nvPr/>
        </p:nvPicPr>
        <p:blipFill>
          <a:blip r:embed="rId22"/>
          <a:stretch/>
        </p:blipFill>
        <p:spPr>
          <a:xfrm>
            <a:off x="3200400" y="4686480"/>
            <a:ext cx="1851120" cy="2171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00400" y="1714680"/>
            <a:ext cx="267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hands-holding-burning_~CB061886" descr="hands holding &#10;a burning book. &#10;fotosearch - search &#10;stock photos, &#10;pictures, images, &#10;and photo clipart"/>
          <p:cNvPicPr/>
          <p:nvPr/>
        </p:nvPicPr>
        <p:blipFill>
          <a:blip r:embed="rId23"/>
          <a:stretch/>
        </p:blipFill>
        <p:spPr>
          <a:xfrm>
            <a:off x="5334120" y="1981080"/>
            <a:ext cx="1279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02:02:12Z</dcterms:created>
  <dc:creator>user</dc:creator>
  <dc:description/>
  <dc:language>en-US</dc:language>
  <cp:lastModifiedBy>user</cp:lastModifiedBy>
  <dcterms:modified xsi:type="dcterms:W3CDTF">2008-05-04T02:22:05Z</dcterms:modified>
  <cp:revision>1</cp:revision>
  <dc:subject/>
  <dc:title>PowerPoint Presentation</dc:title>
</cp:coreProperties>
</file>